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3147-7C66-4329-B924-A52DB962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1A12-2F95-4850-B15F-F1505342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16C6-1843-44BE-AC74-4EFCD4E3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DBE6-A1E2-40DB-BA26-8D53A570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380D-6AD6-46BD-B3A7-D7EF0D5B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13E-4BD5-4596-9418-DC0E3CAF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4515-9F44-4702-BA9A-86F6A77D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B65-001B-430F-BE36-6ED00F5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8C0-6157-44FC-9BEE-3CFA14E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F2D-49C5-48C5-BFEC-EE97DB4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2846-8C62-4247-940B-F308FA4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4D85-283A-44E7-9CC8-8C44C62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0AF2-7DD4-4815-BC58-208D1F2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D86-EDE7-4597-BA3E-F1CFE91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0616-DD6C-497B-983B-D877A4C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A7D0-23FE-469A-AFB1-63E0492D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5E0-FE71-443A-8A0E-74D125F3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20D0-E6F9-4853-8026-2BB77007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E7A5-2990-4648-BD8E-DB95AD8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2FC8-C660-4159-81B7-1BB1826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FB32-2117-4635-B7F6-2AEB2470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6B16-9A34-46BF-AA9F-DB4397D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A644-2400-45F1-B57E-23602B0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0295-7EAF-4BA8-A2B1-50653F1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360-964D-4938-8FCD-802885CC7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485-5697-4F4B-B4D7-2DB3532A9D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comic"/>
              </a:rPr>
              <a:t>Электричество в жизн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352760" y="630864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удент КГПИ фмф143гр: Соловьёв А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и 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ение теоретической и практической части учебной программы «Электричество»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вашей творческой самосто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иление связи обучения с жизнь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рмирование основ знаний будующей профе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склонности к изучению физик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творческих способностей, осознанных мотивов уч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ить ваш кругозо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928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eleczon.ru/step.html#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potomy.ru/things/578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svet-consulting.ru/Usage/history%20electro.php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polkani.ru/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pkresurs-spb.ru/prais-listy/vidy-elektrostantsii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ГЭС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Генератор_переменного_ток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ТЭС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Солнечная_электростанци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aenergy.ru/37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lerk.ru/art019.htm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watta.ru/opyityi/zaryadi-ipod-limonom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referat.ru/pub/item/15035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eltok.edunet.uz/givelek.htm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katastrof.com.ua/art/sharovaya_molniya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Молни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Есть ли электричество на Марсе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Что там Марс?!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Давайте поговорим о земном электричеств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лектричество в жиз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Garamond"/>
              </a:rPr>
              <a:t>Сегодня без электроэнергии мы не можем представить свою жизнь, а ведь совсем еще недавно оно казалось страшным непонятным миру открытием. Некоторое время электроэнергия в принципе была доступна единицам, тогда, как сейчас о том, как обойтись без нее вряд ли кто знает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ы научим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ать электричество из лим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ьзоваться бытовыми электроприборами с соблюдением правил техники безопас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ть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Poin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авлять буклеты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sher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ть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для поиска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держание учебного 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природ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жизни человека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лектричество в природ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Объяснение атмосферных явлений: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к возникает молния?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зможности молн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то такое шаровая молни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живой природ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кие животные используют электричест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куда они получают электричест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лектричество в жизни челове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тория открытия электричеств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лучение электричеств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Возможности применения электричества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в быту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в профессия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 и человек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?Проблемные вопросы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Что было бы если не было электричества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Электрический ток и человек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Можно ли получить электричество из продуктов питания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0:28Z</dcterms:created>
  <dc:creator>Sanosol</dc:creator>
  <dc:description/>
  <dc:language>en-US</dc:language>
  <cp:lastModifiedBy>Sanosol</cp:lastModifiedBy>
  <dcterms:modified xsi:type="dcterms:W3CDTF">2010-06-02T15:22:23Z</dcterms:modified>
  <cp:revision>2</cp:revision>
  <dc:subject/>
  <dc:title>Слайд 1</dc:title>
</cp:coreProperties>
</file>